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72A-C842-4B9E-9A8A-5097343C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D1D-B7D0-4223-A19C-8D007249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230-59EE-4232-B99A-2839EBFD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BF4-75C7-4590-94FA-CC69C132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61F-4AFA-4454-91D7-BB6B628B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805-7F4F-49F8-99B6-D202B7EA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7E4-6922-49D7-A3BF-D6B5A95B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C4E-8DE3-410A-9620-EE7821C3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EB3-A5A3-45CC-9585-C647F2BB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37F-BC74-432E-99B6-87A57E0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668-A4A5-4838-9F80-2564162A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047-8B50-4FFA-9D89-4CA0C35B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EB22-570A-4AB5-AA87-CB91933A0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1719" t="17335" r="13280" b="1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rcRect l="11719" t="19339" r="13280" b="14003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11719" t="15332" r="13280" b="14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11719" t="16668" r="13280" b="15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11719" t="16970" r="13280" b="151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11719" t="15332" r="14063" b="15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" descr=""/>
          <p:cNvPicPr/>
          <p:nvPr/>
        </p:nvPicPr>
        <p:blipFill>
          <a:blip r:embed="rId2"/>
          <a:stretch/>
        </p:blipFill>
        <p:spPr>
          <a:xfrm>
            <a:off x="1268280" y="476280"/>
            <a:ext cx="60595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1719" t="16000" r="13280" b="146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1000080" y="208080"/>
            <a:ext cx="70707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5:20:40Z</dcterms:created>
  <dc:creator>BHISD</dc:creator>
  <dc:description/>
  <dc:language>en-US</dc:language>
  <cp:lastModifiedBy>BHISD</cp:lastModifiedBy>
  <dcterms:modified xsi:type="dcterms:W3CDTF">2012-02-21T18:35:09Z</dcterms:modified>
  <cp:revision>4</cp:revision>
  <dc:subject/>
  <dc:title>Slide 1</dc:title>
</cp:coreProperties>
</file>